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10.png" ContentType="image/png"/>
  <Override PartName="/ppt/media/image2.gif" ContentType="image/gif"/>
  <Override PartName="/ppt/media/image6.png" ContentType="image/png"/>
  <Override PartName="/ppt/media/image11.png" ContentType="image/png"/>
  <Override PartName="/ppt/media/image3.png" ContentType="image/png"/>
  <Override PartName="/ppt/media/image4.png" ContentType="image/png"/>
  <Override PartName="/ppt/media/image7.png" ContentType="image/png"/>
  <Override PartName="/ppt/media/image12.png" ContentType="image/png"/>
  <Override PartName="/ppt/media/image8.gif" ContentType="image/gif"/>
  <Override PartName="/ppt/media/image9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5E50-7775-46C5-9B7A-70D536611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E606-0E28-421D-9BBC-542B17CB3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F6B3-76EA-4BE6-B685-763A6DB0B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5C22-3798-4349-B6D7-AA62DF1F1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8C0D-08E3-4CCE-BD1C-AB549EB33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3608-6EE5-4660-B9F0-B6546963A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1AC9-138B-44C6-9A0F-B499EFF3E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F373-76A2-43F5-872F-73C9D97D9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FC13-8369-4047-B9E7-4DFCE78F8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2843-3F7C-4C2C-8FDE-35006C678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EBB5-4901-4D31-97C8-1A4604514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95A3-9727-4503-A382-C867E4160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5EC5E-C4F5-43D8-AEF4-2290998589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image" Target="../media/image8.gif"/><Relationship Id="rId9" Type="http://schemas.openxmlformats.org/officeDocument/2006/relationships/image" Target="../media/image8.gif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7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4b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4" descr="рамка сердечки"/>
          <p:cNvPicPr/>
          <p:nvPr/>
        </p:nvPicPr>
        <p:blipFill>
          <a:blip r:embed="rId1"/>
          <a:stretch/>
        </p:blipFill>
        <p:spPr>
          <a:xfrm>
            <a:off x="0" y="57240"/>
            <a:ext cx="9144000" cy="680076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9"/>
          <p:cNvSpPr/>
          <p:nvPr/>
        </p:nvSpPr>
        <p:spPr>
          <a:xfrm>
            <a:off x="5562720" y="2514600"/>
            <a:ext cx="1439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1"/>
          <p:cNvSpPr/>
          <p:nvPr/>
        </p:nvSpPr>
        <p:spPr>
          <a:xfrm>
            <a:off x="2340000" y="2205000"/>
            <a:ext cx="762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Times New Roman"/>
              </a:rPr>
              <a:t>«Посмотри вокруг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42" descr="86299fdc3f08d13a99479744af73be31[1].gif"/>
          <p:cNvPicPr/>
          <p:nvPr/>
        </p:nvPicPr>
        <p:blipFill>
          <a:blip r:embed="rId2"/>
          <a:stretch/>
        </p:blipFill>
        <p:spPr>
          <a:xfrm>
            <a:off x="1692360" y="3573360"/>
            <a:ext cx="173988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8" descr=""/>
          <p:cNvPicPr/>
          <p:nvPr/>
        </p:nvPicPr>
        <p:blipFill>
          <a:blip r:embed="rId1"/>
          <a:stretch/>
        </p:blipFill>
        <p:spPr>
          <a:xfrm>
            <a:off x="8459640" y="6308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3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4b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1908000" y="1773360"/>
            <a:ext cx="295308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5562720" y="2514600"/>
            <a:ext cx="1439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Облако 37"/>
          <p:cNvGrpSpPr/>
          <p:nvPr/>
        </p:nvGrpSpPr>
        <p:grpSpPr>
          <a:xfrm>
            <a:off x="6126120" y="646200"/>
            <a:ext cx="2243160" cy="1395360"/>
            <a:chOff x="6126120" y="646200"/>
            <a:chExt cx="2243160" cy="1395360"/>
          </a:xfrm>
        </p:grpSpPr>
        <p:pic>
          <p:nvPicPr>
            <p:cNvPr id="51" name="Облако 37" descr=""/>
            <p:cNvPicPr/>
            <p:nvPr/>
          </p:nvPicPr>
          <p:blipFill>
            <a:blip r:embed="rId2"/>
            <a:stretch/>
          </p:blipFill>
          <p:spPr>
            <a:xfrm>
              <a:off x="6126120" y="646200"/>
              <a:ext cx="224316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6424560" y="835200"/>
              <a:ext cx="1193760" cy="64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Облако 38"/>
          <p:cNvGrpSpPr/>
          <p:nvPr/>
        </p:nvGrpSpPr>
        <p:grpSpPr>
          <a:xfrm>
            <a:off x="639720" y="566640"/>
            <a:ext cx="2243160" cy="1401840"/>
            <a:chOff x="639720" y="566640"/>
            <a:chExt cx="2243160" cy="1401840"/>
          </a:xfrm>
        </p:grpSpPr>
        <p:pic>
          <p:nvPicPr>
            <p:cNvPr id="54" name="Облако 38" descr=""/>
            <p:cNvPicPr/>
            <p:nvPr/>
          </p:nvPicPr>
          <p:blipFill>
            <a:blip r:embed="rId3"/>
            <a:stretch/>
          </p:blipFill>
          <p:spPr>
            <a:xfrm>
              <a:off x="639720" y="566640"/>
              <a:ext cx="224316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938160" y="758880"/>
              <a:ext cx="1193760" cy="64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Облако 39"/>
          <p:cNvGrpSpPr/>
          <p:nvPr/>
        </p:nvGrpSpPr>
        <p:grpSpPr>
          <a:xfrm>
            <a:off x="3913200" y="1633680"/>
            <a:ext cx="2243160" cy="1401480"/>
            <a:chOff x="3913200" y="1633680"/>
            <a:chExt cx="2243160" cy="1401480"/>
          </a:xfrm>
        </p:grpSpPr>
        <p:pic>
          <p:nvPicPr>
            <p:cNvPr id="57" name="Облако 39" descr=""/>
            <p:cNvPicPr/>
            <p:nvPr/>
          </p:nvPicPr>
          <p:blipFill>
            <a:blip r:embed="rId4"/>
            <a:stretch/>
          </p:blipFill>
          <p:spPr>
            <a:xfrm>
              <a:off x="3913200" y="1633680"/>
              <a:ext cx="2243160" cy="140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4214880" y="1825560"/>
              <a:ext cx="1193760" cy="64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" name="Рисунок 40" descr="f21d55bb8d8e54c1fd8c448382a11721[1].gif"/>
          <p:cNvPicPr/>
          <p:nvPr/>
        </p:nvPicPr>
        <p:blipFill>
          <a:blip r:embed="rId5"/>
          <a:stretch/>
        </p:blipFill>
        <p:spPr>
          <a:xfrm>
            <a:off x="-1676520" y="449568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728c73da5a2991800f69b5cc6c1a7e8e"/>
          <p:cNvPicPr/>
          <p:nvPr/>
        </p:nvPicPr>
        <p:blipFill>
          <a:blip r:embed="rId6"/>
          <a:stretch/>
        </p:blipFill>
        <p:spPr>
          <a:xfrm flipH="1">
            <a:off x="-360" y="5400720"/>
            <a:ext cx="2376360" cy="1457280"/>
          </a:xfrm>
          <a:prstGeom prst="rect">
            <a:avLst/>
          </a:prstGeom>
          <a:ln w="0">
            <a:noFill/>
          </a:ln>
        </p:spPr>
      </p:pic>
      <p:grpSp>
        <p:nvGrpSpPr>
          <p:cNvPr id="61" name="Group 83"/>
          <p:cNvGrpSpPr/>
          <p:nvPr/>
        </p:nvGrpSpPr>
        <p:grpSpPr>
          <a:xfrm>
            <a:off x="3203640" y="404640"/>
            <a:ext cx="1144440" cy="995040"/>
            <a:chOff x="3203640" y="404640"/>
            <a:chExt cx="1144440" cy="995040"/>
          </a:xfrm>
        </p:grpSpPr>
        <p:sp>
          <p:nvSpPr>
            <p:cNvPr id="62" name="Freeform 66"/>
            <p:cNvSpPr/>
            <p:nvPr/>
          </p:nvSpPr>
          <p:spPr>
            <a:xfrm>
              <a:off x="3524040" y="674280"/>
              <a:ext cx="507600" cy="44784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67"/>
            <p:cNvSpPr/>
            <p:nvPr/>
          </p:nvSpPr>
          <p:spPr>
            <a:xfrm>
              <a:off x="3766320" y="404640"/>
              <a:ext cx="168480" cy="29916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68"/>
            <p:cNvSpPr/>
            <p:nvPr/>
          </p:nvSpPr>
          <p:spPr>
            <a:xfrm>
              <a:off x="3889440" y="545400"/>
              <a:ext cx="314280" cy="22176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69"/>
            <p:cNvSpPr/>
            <p:nvPr/>
          </p:nvSpPr>
          <p:spPr>
            <a:xfrm>
              <a:off x="3984480" y="773280"/>
              <a:ext cx="363600" cy="9504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70"/>
            <p:cNvSpPr/>
            <p:nvPr/>
          </p:nvSpPr>
          <p:spPr>
            <a:xfrm>
              <a:off x="4001760" y="891000"/>
              <a:ext cx="338040" cy="15300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71"/>
            <p:cNvSpPr/>
            <p:nvPr/>
          </p:nvSpPr>
          <p:spPr>
            <a:xfrm>
              <a:off x="3921120" y="997920"/>
              <a:ext cx="243360" cy="28224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2"/>
            <p:cNvSpPr/>
            <p:nvPr/>
          </p:nvSpPr>
          <p:spPr>
            <a:xfrm>
              <a:off x="3805920" y="1078200"/>
              <a:ext cx="107640" cy="32004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73"/>
            <p:cNvSpPr/>
            <p:nvPr/>
          </p:nvSpPr>
          <p:spPr>
            <a:xfrm>
              <a:off x="3638160" y="1098360"/>
              <a:ext cx="150120" cy="30132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74"/>
            <p:cNvSpPr/>
            <p:nvPr/>
          </p:nvSpPr>
          <p:spPr>
            <a:xfrm>
              <a:off x="3361680" y="1034280"/>
              <a:ext cx="307080" cy="22932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75"/>
            <p:cNvSpPr/>
            <p:nvPr/>
          </p:nvSpPr>
          <p:spPr>
            <a:xfrm>
              <a:off x="3217320" y="942840"/>
              <a:ext cx="361800" cy="11340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76"/>
            <p:cNvSpPr/>
            <p:nvPr/>
          </p:nvSpPr>
          <p:spPr>
            <a:xfrm>
              <a:off x="3203640" y="795240"/>
              <a:ext cx="343080" cy="12888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77"/>
            <p:cNvSpPr/>
            <p:nvPr/>
          </p:nvSpPr>
          <p:spPr>
            <a:xfrm>
              <a:off x="3344040" y="558360"/>
              <a:ext cx="275760" cy="25812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78"/>
            <p:cNvSpPr/>
            <p:nvPr/>
          </p:nvSpPr>
          <p:spPr>
            <a:xfrm>
              <a:off x="3614760" y="409320"/>
              <a:ext cx="123480" cy="31932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79"/>
            <p:cNvSpPr/>
            <p:nvPr/>
          </p:nvSpPr>
          <p:spPr>
            <a:xfrm>
              <a:off x="3567960" y="709920"/>
              <a:ext cx="425880" cy="3751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" name="Picture 8" descr="728c73da5a2991800f69b5cc6c1a7e8e"/>
          <p:cNvPicPr/>
          <p:nvPr/>
        </p:nvPicPr>
        <p:blipFill>
          <a:blip r:embed="rId7"/>
          <a:stretch/>
        </p:blipFill>
        <p:spPr>
          <a:xfrm flipH="1">
            <a:off x="4284360" y="5400720"/>
            <a:ext cx="2376360" cy="1457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728c73da5a2991800f69b5cc6c1a7e8e"/>
          <p:cNvPicPr/>
          <p:nvPr/>
        </p:nvPicPr>
        <p:blipFill>
          <a:blip r:embed="rId8"/>
          <a:stretch/>
        </p:blipFill>
        <p:spPr>
          <a:xfrm flipH="1">
            <a:off x="1979280" y="4869000"/>
            <a:ext cx="2376360" cy="1457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728c73da5a2991800f69b5cc6c1a7e8e"/>
          <p:cNvPicPr/>
          <p:nvPr/>
        </p:nvPicPr>
        <p:blipFill>
          <a:blip r:embed="rId9"/>
          <a:stretch/>
        </p:blipFill>
        <p:spPr>
          <a:xfrm flipH="1">
            <a:off x="6767280" y="5084640"/>
            <a:ext cx="2376360" cy="14572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5" descr="nasekomoe-21"/>
          <p:cNvPicPr/>
          <p:nvPr/>
        </p:nvPicPr>
        <p:blipFill>
          <a:blip r:embed="rId10"/>
          <a:stretch/>
        </p:blipFill>
        <p:spPr>
          <a:xfrm>
            <a:off x="8567640" y="1341360"/>
            <a:ext cx="576360" cy="4190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6" descr="nasekomoe-21"/>
          <p:cNvPicPr/>
          <p:nvPr/>
        </p:nvPicPr>
        <p:blipFill>
          <a:blip r:embed="rId11"/>
          <a:stretch/>
        </p:blipFill>
        <p:spPr>
          <a:xfrm flipH="1" rot="1223400">
            <a:off x="250920" y="1773000"/>
            <a:ext cx="936360" cy="93816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40" descr="f21d55bb8d8e54c1fd8c448382a11721[1].gif"/>
          <p:cNvPicPr/>
          <p:nvPr/>
        </p:nvPicPr>
        <p:blipFill>
          <a:blip r:embed="rId12"/>
          <a:stretch/>
        </p:blipFill>
        <p:spPr>
          <a:xfrm>
            <a:off x="10117080" y="4724280"/>
            <a:ext cx="1295280" cy="165744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40" descr="f21d55bb8d8e54c1fd8c448382a11721[1].gif"/>
          <p:cNvPicPr/>
          <p:nvPr/>
        </p:nvPicPr>
        <p:blipFill>
          <a:blip r:embed="rId13"/>
          <a:stretch/>
        </p:blipFill>
        <p:spPr>
          <a:xfrm>
            <a:off x="-3276720" y="5200560"/>
            <a:ext cx="1584360" cy="16574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0" descr="reptilii-13"/>
          <p:cNvPicPr/>
          <p:nvPr/>
        </p:nvPicPr>
        <p:blipFill>
          <a:blip r:embed="rId14"/>
          <a:stretch/>
        </p:blipFill>
        <p:spPr>
          <a:xfrm>
            <a:off x="7343640" y="4437000"/>
            <a:ext cx="1800360" cy="16178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1" descr="reptilii-13"/>
          <p:cNvPicPr/>
          <p:nvPr/>
        </p:nvPicPr>
        <p:blipFill>
          <a:blip r:embed="rId15"/>
          <a:stretch/>
        </p:blipFill>
        <p:spPr>
          <a:xfrm>
            <a:off x="5580000" y="4508640"/>
            <a:ext cx="20163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9000"/>
                            </p:stCondLst>
                            <p:childTnLst>
                              <p:par>
                                <p:cTn id="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035 0.00277 0.00191 0.01689 0.00313 0.02083 C 0.00486 0.02592 0.00764 0.03032 0.00938 0.03541 C 0.01233 0.04467 0.01233 0.05648 0.01719 0.06458 C 0.01841 0.06643 0.02049 0.06689 0.02188 0.06875 C 0.02691 0.07546 0.03091 0.08287 0.03594 0.08958 C 0.03802 0.09236 0.03872 0.09676 0.04063 0.1 C 0.04236 0.10301 0.04514 0.10509 0.04688 0.10833 C 0.05434 0.12152 0.04514 0.11227 0.05469 0.125 C 0.06111 0.13356 0.0691 0.14074 0.07657 0.14791 C 0.08802 0.15879 0.09705 0.17291 0.11094 0.17916 C 0.11945 0.18819 0.12709 0.1912 0.13594 0.2 C 0.14601 0.21018 0.1467 0.2118 0.15625 0.21875 C 0.16372 0.2243 0.18125 0.22708 0.18125 0.22708 C 0.18663 0.23078 0.19323 0.23102 0.19827 0.23541 C 0.19983 0.23657 0.19896 0.23981 0.2 0.24166 C 0.20174 0.24537 0.20434 0.24838 0.20625 0.25208 C 0.20747 0.25463 0.20782 0.25833 0.20938 0.26041 C 0.21094 0.2625 0.21372 0.26273 0.21563 0.26458 C 0.21736 0.2662 0.21858 0.26921 0.22032 0.27083 C 0.23733 0.28703 0.28646 0.28449 0.29688 0.28541 C 0.33073 0.29444 0.31597 0.28981 0.38282 0.29166 C 0.3941 0.29676 0.38907 0.29467 0.39844 0.29791 C 0.40417 0.29652 0.41007 0.29583 0.41563 0.29375 C 0.42136 0.29166 0.42518 0.2824 0.43125 0.28125 C 0.44653 0.27847 0.4625 0.27986 0.47813 0.27916 C 0.48368 0.27754 0.48976 0.27801 0.49532 0.275 C 0.50573 0.26921 0.51511 0.25532 0.52483 0.24791 C 0.54341 0.23379 0.56233 0.22268 0.58282 0.21458 C 0.58577 0.21064 0.59045 0.20902 0.59219 0.20416 C 0.59688 0.19004 0.59028 0.19166 0.59688 0.18125 C 0.62431 0.13727 0.59566 0.19213 0.61875 0.14583 C 0.62518 0.11435 0.62622 0.08402 0.62969 0.05208 C 0.63125 0.0375 0.63125 0.02291 0.64063 0.01458 C 0.64427 0.00717 0.64375 0.01088 0.64375 0.00416 E">
                                      <p:cBhvr>
                                        <p:cTn id="37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1000"/>
                            </p:stCondLst>
                            <p:childTnLst>
                              <p:par>
                                <p:cTn id="3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399 0.00787 -0.00312 0.00463 -0.00468 0.01458 C -0.00573 0.02153 -0.00781 0.03542 -0.00781 0.03542 C -0.00729 0.05417 -0.00625 0.07292 -0.00625 0.09167 C -0.00625 0.11042 -0.00712 0.12917 -0.00781 0.14792 C -0.0092 0.18819 -0.01406 0.22292 -0.03593 0.25208 C -0.03784 0.25463 -0.03854 0.25833 -0.04062 0.26042 C -0.0493 0.26875 -0.05903 0.2706 -0.06875 0.275 C -0.07795 0.27917 -0.08593 0.28634 -0.09375 0.29375 C -0.12361 0.32199 -0.13611 0.3294 -0.17031 0.33333 C -0.21475 0.32847 -0.25868 0.32083 -0.30312 0.31875 C -0.3151 0.31597 -0.325 0.31389 -0.3375 0.3125 C -0.34843 0.31389 -0.35937 0.31528 -0.37031 0.31667 C -0.37656 0.31736 -0.38906 0.31875 -0.38906 0.31875 C -0.39843 0.31736 -0.40798 0.31736 -0.41718 0.31458 C -0.42587 0.31181 -0.43021 0.30463 -0.4375 0.3 C -0.46614 0.28264 -0.48437 0.25856 -0.50781 0.23125 C -0.52343 0.21296 -0.54114 0.19861 -0.55468 0.17708 C -0.56545 0.15995 -0.575 0.14167 -0.58437 0.12292 C -0.58941 0.11296 -0.59635 0.10394 -0.60156 0.09375 C -0.60659 0.06991 -0.61302 0.04097 -0.62656 0.02292 C -0.62986 0.00532 -0.62673 0.01019 -0.63125 0.00417 E">
                                      <p:cBhvr>
                                        <p:cTn id="40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3000"/>
                            </p:stCondLst>
                            <p:childTnLst>
                              <p:par>
                                <p:cTn id="42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67 0.125 0.16667 C 0.125 0.25867 0.069 0.33333 0 0.33333 C -0.069 0.33333 -0.125 0.25867 -0.125 0.16667 C -0.125 0.07467 -0.069 0 0 0 Z">
                                      <p:cBhvr>
                                        <p:cTn id="43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0"/>
                            </p:stCondLst>
                            <p:childTnLst>
                              <p:par>
                                <p:cTn id="45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67 0.125 0.16667 C 0.125 0.25867 0.069 0.33333 0 0.33333 C -0.069 0.33333 -0.125 0.25867 -0.125 0.16667 C -0.125 0.07467 -0.069 0 0 0 Z">
                                      <p:cBhvr>
                                        <p:cTn id="46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7000"/>
                            </p:stCondLst>
                            <p:childTnLst>
                              <p:par>
                                <p:cTn id="4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8000"/>
                            </p:stCondLst>
                            <p:childTnLst>
                              <p:par>
                                <p:cTn id="5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9000"/>
                            </p:stCondLst>
                            <p:childTnLst>
                              <p:par>
                                <p:cTn id="6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0"/>
                            </p:stCondLst>
                            <p:childTnLst>
                              <p:par>
                                <p:cTn id="6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9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1000"/>
                            </p:stCondLst>
                            <p:childTnLst>
                              <p:par>
                                <p:cTn id="7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9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2000"/>
                            </p:stCondLst>
                            <p:childTnLst>
                              <p:par>
                                <p:cTn id="8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9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3000"/>
                            </p:stCondLst>
                            <p:childTnLst>
                              <p:par>
                                <p:cTn id="9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9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4000"/>
                            </p:stCondLst>
                            <p:childTnLst>
                              <p:par>
                                <p:cTn id="9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8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5000"/>
                            </p:stCondLst>
                            <p:childTnLst>
                              <p:par>
                                <p:cTn id="10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1.58187E-006 C -0.00781 0.01642 0.000529999999999999 0.03469 -0.01302 0.04625 C -0.01406 0.0481 -0.01458 0.05064 -0.01597 0.05203 C -0.02048 0.05596 -0.03559 0.05874 -0.04062 0.05989 C -0.04722 0.05666 -0.04409 0.05643 -0.05208 0.0636 C -0.06371 0.074 -0.07482 0.08672 -0.08263 0.10222 C -0.08906 0.12881 -0.08645 0.15841 -0.10572 0.17576 C -0.10746 0.17923 -0.11093 0.19033 -0.1144 0.18524 E">
                                      <p:cBhvr>
                                        <p:cTn id="107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7000"/>
                            </p:stCondLst>
                            <p:childTnLst>
                              <p:par>
                                <p:cTn id="109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" dur="1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8000"/>
                            </p:stCondLst>
                            <p:childTnLst>
                              <p:par>
                                <p:cTn id="1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8500"/>
                            </p:stCondLst>
                            <p:childTnLst>
                              <p:par>
                                <p:cTn id="12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5.08788E-007 C 0.00382 -0.0155 0.02048 -0.02012 0.0309 -0.02313 C 0.0368 -0.02868 0.04062 -0.02636 0.04704 -0.02313 C 0.06232 -0.00671 0.04062 -0.02868 0.06041 -0.01365 C 0.06388 -0.0111 0.06996 -0.00393 0.06996 -0.0037 C 0.07586 0.00925 0.07048 -0.00578 0.06996 0.02128 C 0.06961 0.03793 0.07083 0.05481 0.07135 0.07146 C 0.07534 0.07077 0.07951 0.07146 0.08333 0.06938 C 0.08489 0.06869 0.08489 0.06522 0.08611 0.0636 C 0.08975 0.05897 0.09479 0.05689 0.09826 0.05203 C 0.1052 0.04186 0.11562 0.02313 0.12361 0.01526 C 0.12968 0.00231 0.13975 -0.00856 0.15052 -0.01156 C 0.16996 -0.00624 0.15763 0.0259 0.16007 0.05388 C 0.16024 0.0562 0.16684 0.05944 0.16805 0.05967 C 0.17448 0.06082 0.18055 0.06105 0.18698 0.06175 C 0.19027 0.06036 0.19461 0.06059 0.19774 0.05782 C 0.19965 0.05597 0.20121 0.0525 0.20312 0.05018 C 0.20468 0.0481 0.20642 0.04602 0.20833 0.0444 C 0.21475 0.03908 0.22152 0.03423 0.22725 0.02706 C 0.23281 0.01989 0.23489 0.0148 0.24201 0.01156 C 0.24826 -0.00208 0.24461 0.00254 0.25156 -0.00393 C 0.25277 -0.00648 0.25416 -0.00925 0.25555 -0.01156 C 0.25694 -0.01365 0.2585 -0.01526 0.25954 -0.01735 C 0.26718 -0.03145 0.26128 -0.02752 0.26892 -0.03099 C 0.27829 -0.04001 0.2743 -0.03608 0.28107 -0.04255 C 0.28229 -0.04394 0.28507 -0.04649 0.28507 -0.04625 C 0.29357 -0.04533 0.30555 -0.04787 0.31076 -0.03677 C 0.31597 -0.00532 0.32031 0.05643 0.29722 0.07909 C 0.29097 0.09274 0.28489 0.10407 0.28107 0.11956 C 0.28211 0.14639 0.27986 0.17553 0.29062 0.19889 C 0.29236 0.20652 0.29375 0.20976 0.29861 0.21415 C 0.29948 0.216 0.3 0.21832 0.30121 0.21993 C 0.30225 0.22155 0.30416 0.22202 0.3052 0.22387 C 0.31371 0.23867 0.30208 0.22572 0.31198 0.23543 C 0.3151 0.24191 0.32048 0.25046 0.32552 0.25277 C 0.3302 0.26711 0.32552 0.25509 0.33489 0.27012 C 0.34045 0.27914 0.34027 0.2796 0.34965 0.28168 C 0.35347 0.28585 0.35711 0.2951 0.3618 0.29718 C 0.3684 0.30042 0.37534 0.3018 0.38194 0.30504 C 0.39149 0.30967 0.39687 0.31776 0.40746 0.3203 C 0.4151 0.32586 0.41857 0.32655 0.4276 0.32817 C 0.44027 0.34043 0.47934 0.33742 0.4842 0.33788 C 0.49496 0.33649 0.50573 0.33696 0.51649 0.33395 C 0.51979 0.33302 0.52899 0.32215 0.53246 0.31845 C 0.53767 0.31314 0.54704 0.30759 0.55138 0.30111 C 0.55937 0.28931 0.56649 0.27937 0.57708 0.2722 C 0.58871 0.25509 0.58472 0.26272 0.59045 0.25092 C 0.59166 0.24445 0.59253 0.23589 0.59444 0.22965 C 0.59583 0.22479 0.59843 0.22109 0.59982 0.21623 C 0.60364 0.20398 0.6052 0.19681 0.61198 0.18709 C 0.61527 0.17299 0.62621 0.16096 0.63333 0.15055 C 0.64826 0.12905 0.66267 0.10453 0.68194 0.09066 C 0.68472 0.09135 0.68715 0.09297 0.68993 0.09251 C 0.7026 0.09066 0.68906 0.08603 0.6993 0.09066 C 0.70382 0.08857 0.70486 0.08881 0.70208 0.08881 E">
                                      <p:cBhvr>
                                        <p:cTn id="122" dur="3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1500"/>
                            </p:stCondLst>
                            <p:childTnLst>
                              <p:par>
                                <p:cTn id="124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" dur="1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2500"/>
                            </p:stCondLst>
                            <p:childTnLst>
                              <p:par>
                                <p:cTn id="1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33000"/>
                            </p:stCondLst>
                            <p:childTnLst>
                              <p:par>
                                <p:cTn id="1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3500"/>
                            </p:stCondLst>
                            <p:childTnLst>
                              <p:par>
                                <p:cTn id="14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5E-006 7.49306E-007 C 0.00348 0.00069 0.00747 -0.0007 0.01025 0.00208 C 0.01268 0.00462 0.01303 0.01364 0.01303 0.01364 C 0.01459 0.05782 0.00608 0.0599 0.029 0.06961 C 0.03647 0.06776 0.04046 0.06961 0.04792 0.06776 C 0.05157 0.06915 0.05452 0.07239 0.05799 0.07354 C 0.07119 0.07794 0.08525 0.07632 0.09862 0.07724 C 0.104 0.07794 0.10921 0.07979 0.11459 0.07932 C 0.14098 0.07724 0.10608 0.07169 0.13195 0.07724 C 0.13681 0.07424 0.14133 0.07169 0.14636 0.06961 C 0.15504 0.06198 0.16355 0.05597 0.17223 0.04833 C 0.17535 0.04556 0.17796 0.04116 0.18126 0.03862 C 0.18577 0.03538 0.19115 0.03423 0.19567 0.03099 C 0.21893 0.03584 0.20817 0.03584 0.22761 0.03284 C 0.23143 0.03168 0.23525 0.03029 0.23907 0.02914 C 0.24115 0.02844 0.24272 0.02567 0.24497 0.02521 C 0.25174 0.02382 0.25851 0.02405 0.26529 0.02336 C 0.26824 0.02081 0.27206 0.01942 0.27397 0.01549 C 0.27501 0.01364 0.27553 0.0111 0.27692 0.00971 C 0.27848 0.00832 0.28074 0.00856 0.28265 0.00786 C 0.28525 0.00439 0.28699 -0.00046 0.28994 -0.0037 C 0.29289 -0.00694 0.29671 -0.00856 0.30001 -0.01156 C 0.30522 -0.02197 0.31147 -0.02336 0.31893 -0.02891 C 0.33681 -0.04232 0.3382 -0.03909 0.36372 -0.04232 C 0.3724 -0.04533 0.3816 -0.04626 0.38994 -0.05019 C 0.39376 -0.05805 0.39879 -0.06776 0.40574 -0.07123 C 0.42466 -0.08071 0.44671 -0.08488 0.46667 -0.08881 C 0.48282 -0.08696 0.49671 -0.08164 0.51303 -0.07909 C 0.51633 -0.07771 0.52049 -0.07817 0.52327 -0.07516 C 0.52483 -0.07331 0.52466 -0.06961 0.52605 -0.06753 C 0.53004 -0.06152 0.53247 -0.06152 0.53768 -0.05967 C 0.53872 -0.05782 0.53942 -0.05551 0.54063 -0.05389 C 0.54185 -0.05227 0.54393 -0.05204 0.54497 -0.05019 C 0.55504 -0.03423 0.53872 -0.04996 0.55504 -0.03654 C 0.56251 -0.02174 0.55226 -0.04001 0.56372 -0.02683 C 0.56546 -0.02475 0.56633 -0.02151 0.56806 -0.0192 C 0.56928 -0.01758 0.57101 -0.01665 0.5724 -0.01527 C 0.57344 -0.01342 0.57414 -0.0111 0.57535 -0.00948 C 0.57657 -0.00786 0.57865 -0.00763 0.57969 -0.00578 C 0.58091 -0.00347 0.58022 -0.00023 0.58126 0.00208 C 0.5849 0.01064 0.59671 0.02336 0.60296 0.02914 C 0.61025 0.0444 0.60053 0.02613 0.61025 0.03862 C 0.62136 0.05296 0.60417 0.03631 0.61737 0.04833 C 0.61841 0.05018 0.61945 0.05203 0.62032 0.05411 C 0.62101 0.05597 0.62067 0.05851 0.62171 0.0599 C 0.62275 0.06128 0.62466 0.06105 0.62605 0.06198 C 0.62761 0.0629 0.629 0.06452 0.63039 0.06568 C 0.63091 0.06892 0.63039 0.07285 0.63195 0.07539 C 0.63456 0.08002 0.63976 0.0814 0.64358 0.08302 C 0.6514 0.08649 0.65747 0.09112 0.66529 0.09459 C 0.67171 0.09736 0.68265 0.10823 0.68265 0.10823 C 0.69584 0.09782 0.71008 0.09597 0.72466 0.08881 C 0.72952 0.07932 0.73681 0.07447 0.74202 0.06568 C 0.7514 0.04995 0.74966 0.05411 0.76233 0.0444 C 0.7639 0.04325 0.76494 0.04116 0.76667 0.0407 C 0.78369 0.03677 0.83404 0.03376 0.84497 0.03284 C 0.84949 0.02104 0.84897 0.00856 0.85226 -0.0037 C 0.85279 -0.00856 0.85608 -0.03215 0.85938 -0.03654 C 0.8632 -0.04163 0.86719 -0.04695 0.87101 -0.05204 C 0.87397 -0.05597 0.87831 -0.05782 0.88126 -0.06175 C 0.88699 -0.06938 0.88369 -0.06684 0.89133 -0.06938 C 0.90608 -0.0828 0.9165 -0.07655 0.93629 -0.07516 C 0.94949 -0.08002 0.95869 -0.0673 0.96963 -0.05967 C 0.98195 -0.05111 0.99445 -0.04857 1.0073 -0.04232 C 1.01424 -0.02891 1.03004 -0.01665 1.04202 -0.01156 C 1.04775 -0.00116 1.0514 -0.00278 1.05938 0.00578 C 1.06216 0.01642 1.07188 0.01896 1.07969 0.02128 C 1.10747 0.02914 1.13542 0.03238 1.16372 0.03492 C 1.18022 0.03423 1.19671 0.03608 1.21303 0.03284 C 1.24949 0.02544 1.18004 0.01295 1.23473 0.02706 C 1.24931 0.02521 1.26372 0.02359 1.27831 0.02128 C 1.28542 0.02012 1.28473 0.02128 1.28265 0.01549 E">
                                      <p:cBhvr>
                                        <p:cTn id="143" dur="5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8500"/>
                            </p:stCondLst>
                            <p:childTnLst>
                              <p:par>
                                <p:cTn id="14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4 -0.01319 C -0.03959 -0.02315 -0.03785 -0.02616 -0.08507 -0.01875 C -0.09618 -0.01713 -0.10608 -0.00995 -0.11632 -0.00764 C -0.12813 0.00417 -0.12136 -0.00069 -0.1375 0.00625 C -0.14184 0.0081 -0.14566 0.01273 -0.15 0.01459 C -0.15348 -0.00069 -0.14931 0.00996 -0.16424 0.0007 C -0.17691 -0.00694 -0.18681 -0.02129 -0.19966 -0.02708 C -0.20643 -0.04074 -0.21754 -0.04583 -0.22917 -0.05208 C -0.23316 -0.0544 -0.24132 -0.05764 -0.24132 -0.05741 C -0.24271 -0.06041 -0.24341 -0.06412 -0.24549 -0.06597 C -0.24792 -0.06805 -0.25104 -0.06759 -0.25382 -0.06875 C -0.26181 -0.07176 -0.26893 -0.07708 -0.27709 -0.07986 C -0.30452 -0.0706 -0.29341 -0.06875 -0.31007 -0.0743 C -0.31841 -0.07083 -0.32431 -0.06389 -0.33091 -0.05764 C -0.34028 -0.03889 -0.32917 -0.05717 -0.34132 -0.04653 C -0.34931 -0.03935 -0.35018 -0.03426 -0.36042 -0.02986 C -0.37188 -0.01412 -0.37136 -0.02106 -0.38299 -0.01041 C -0.39584 0.00116 -0.40834 0.01227 -0.42257 0.02014 C -0.42882 0.01922 -0.43525 0.01991 -0.44132 0.01736 C -0.44462 0.01597 -0.44723 0.01181 -0.45 0.00903 C -0.4566 0.00278 -0.46372 -0.00162 -0.47049 -0.00764 C -0.47795 -0.03773 -0.51615 -0.01828 -0.53299 -0.01319 C -0.5375 -0.00949 -0.54098 -0.00393 -0.54584 -0.00208 C -0.55747 0.00255 -0.57049 0.00116 -0.58334 0.00347 C -0.60209 -0.00162 -0.62049 -0.00116 -0.63716 -0.01597 C -0.63854 -0.0206 -0.63907 -0.02569 -0.64132 -0.02986 C -0.64462 -0.03611 -0.64931 -0.03518 -0.65382 -0.03819 C -0.67032 -0.04907 -0.6507 -0.03958 -0.66632 -0.04653 C -0.68056 -0.06065 -0.69202 -0.06088 -0.71042 -0.06319 C -0.71216 -0.06412 -0.71424 -0.0669 -0.71632 -0.06597 C -0.72101 -0.06389 -0.72622 -0.06018 -0.72917 -0.05486 C -0.73125 -0.05116 -0.73212 -0.04537 -0.73507 -0.04375 C -0.74236 -0.04028 -0.7507 -0.0419 -0.75799 -0.04097 C -0.76007 -0.03912 -0.76181 -0.03588 -0.76424 -0.03541 C -0.76632 -0.03495 -0.76875 -0.03773 -0.77084 -0.03819 C -0.80452 -0.04722 -0.78577 -0.03935 -0.80174 -0.04653 C -0.82466 -0.04051 -0.80295 -0.04953 -0.81667 -0.03541 C -0.82188 -0.02963 -0.83021 -0.03125 -0.8375 -0.02986 C -0.85469 -0.01435 -0.87726 -0.01713 -0.89757 -0.01319 C -0.90209 -0.01504 -0.90608 -0.01805 -0.91007 -0.01875 C -0.92674 -0.02083 -0.91007 -0.00648 -0.92917 -0.02153 C -0.93646 -0.02754 -0.93941 -0.03171 -0.94341 -0.04097 C -0.94497 -0.04467 -0.94532 -0.04907 -0.94792 -0.05208 C -0.94948 -0.05416 -0.95209 -0.05416 -0.95382 -0.05486 C -0.95938 -0.05694 -0.96493 -0.05856 -0.97084 -0.06041 C -0.99011 -0.0669 -0.98195 -0.0625 -0.99584 -0.07153 C -1.01181 -0.06435 -0.98785 -0.07315 -1.01459 -0.0743 C -1.03021 -0.075 -1.04618 -0.07245 -1.06216 -0.07153 C -1.06598 -0.0706 -1.0691 -0.06828 -1.07257 -0.06875 C -1.0941 -0.07106 -1.09723 -0.08796 -1.10834 -0.10764 C -1.11962 -0.15301 -1.10382 -0.10162 -1.12084 -0.13264 C -1.13507 -0.15995 -1.10608 -0.12731 -1.13125 -0.15208 C -1.13334 -0.15879 -1.13698 -0.16458 -1.13924 -0.17153 C -1.14202 -0.17986 -1.14063 -0.18912 -1.14549 -0.19653 C -1.14757 -0.19977 -1.15104 -0.20023 -1.154 -0.20208 C -1.16354 -0.22129 -1.15052 -0.19791 -1.17049 -0.22153 C -1.17309 -0.22453 -1.17379 -0.23009 -1.17691 -0.23264 C -1.18039 -0.23588 -1.18525 -0.23588 -1.18924 -0.23819 C -1.19497 -0.24143 -1.20052 -0.24514 -1.20591 -0.2493 C -1.23768 -0.27361 -1.19514 -0.24676 -1.23716 -0.27153 C -1.25122 -0.29653 -1.23264 -0.26852 -1.26216 -0.28819 C -1.26528 -0.29028 -1.26563 -0.29653 -1.26841 -0.2993 C -1.27066 -0.30162 -1.27396 -0.30116 -1.27674 -0.30208 C -1.28195 -0.30903 -1.2882 -0.31458 -1.29341 -0.32153 C -1.29584 -0.32477 -1.29705 -0.32963 -1.29966 -0.33264 C -1.30834 -0.34259 -1.32118 -0.34004 -1.33091 -0.34653 C -1.33733 -0.35069 -1.34323 -0.35625 -1.34966 -0.36041 C -1.36702 -0.37153 -1.3882 -0.37569 -1.40174 -0.39375 E">
                                      <p:cBhvr>
                                        <p:cTn id="146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500"/>
                            </p:stCondLst>
                            <p:childTnLst>
                              <p:par>
                                <p:cTn id="14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6.66667E-006 C 0.00903 -0.00093 0.01806 -0.00348 0.02708 -0.00278 C 0.08941 0.00185 0.05694 0.01365 0.0875 -6.66667E-006 C 0.10208 0.00647 0.11892 -0.00209 0.13351 -0.00556 C 0.1658 -0.01343 0.14896 -0.00695 0.17101 -0.01667 C 0.18576 -0.00996 0.19097 -0.02802 0.20417 -0.03056 C 0.21997 -0.0338 0.23611 -0.03427 0.25208 -0.03612 C 0.25764 -0.04075 0.26319 -0.04538 0.26875 -0.05001 C 0.28073 -0.05996 0.31042 -0.06112 0.31042 -0.06112 C 0.34375 -0.0588 0.37743 -0.05741 0.41042 -0.05001 C 0.41736 -0.05626 0.42535 -0.06436 0.43125 -0.07223 C 0.43299 -0.07454 0.43368 -0.07825 0.43542 -0.08056 C 0.43715 -0.08288 0.43976 -0.08403 0.44167 -0.08612 C 0.44722 -0.09237 0.45174 -0.10093 0.45625 -0.10834 C 0.46042 -0.12524 0.47413 -0.12964 0.48542 -0.13612 C 0.5408 -0.1294 0.47569 -0.1345 0.53125 -0.1389 C 0.53611 -0.13936 0.54097 -0.13612 0.54583 -0.13612 E">
                                      <p:cBhvr>
                                        <p:cTn id="149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2500"/>
                            </p:stCondLst>
                            <p:childTnLst>
                              <p:par>
                                <p:cTn id="15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5.55556E-006 C -0.03108 -0.00763 -0.0625 -0.01249 -0.09375 -0.01944 C -0.12153 -0.000920000000000001 -0.15486 -0.00578 -0.18542 -0.00277 C -0.19566 0.00186 -0.20642 0.00371 -0.21667 0.00834 C -0.22378 0.01158 -0.23073 0.02038 -0.2375 0.02501 C -0.24045 0.02709 -0.24948 0.02964 -0.25208 0.03056 C -0.2684 0.0257 -0.28385 0.01922 -0.3 0.0139 C -0.31528 0.0088 -0.32517 0.0095 -0.33958 0.00278 C -0.3901 -0.02083 -0.34306 -0.00393 -0.38125 -0.01666 C -0.38663 -0.02129 -0.39028 -0.02939 -0.39583 -0.03333 C -0.40799 -0.04212 -0.42431 -0.04583 -0.4375 -0.05277 C -0.44514 -0.05185 -0.45278 -0.05185 -0.46042 -0.04999 C -0.46476 -0.04907 -0.46858 -0.04444 -0.47292 -0.04444 C -0.47934 -0.04444 -0.48542 -0.04814 -0.49167 -0.04999 C -0.50069 -0.04606 -0.50972 -0.04282 -0.51875 -0.03888 C -0.52083 -0.03796 -0.525 -0.0361 -0.525 -0.0361 C -0.54115 -0.04328 -0.55816 -0.0449 -0.575 -0.04722 C -0.57986 -0.0493 -0.58507 -0.04976 -0.58958 -0.05277 C -0.61441 -0.06921 -0.59149 -0.06041 -0.61042 -0.06666 C -0.62222 -0.07708 -0.63628 -0.08101 -0.65 -0.07499 C -0.69271 -0.09397 -0.68125 -0.09513 -0.68125 -0.01666 E">
                                      <p:cBhvr>
                                        <p:cTn id="152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44500"/>
                            </p:stCondLst>
                            <p:childTnLst>
                              <p:par>
                                <p:cTn id="15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46500"/>
                            </p:stCondLst>
                            <p:childTnLst>
                              <p:par>
                                <p:cTn id="17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4b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рамка сердечки"/>
          <p:cNvPicPr/>
          <p:nvPr/>
        </p:nvPicPr>
        <p:blipFill>
          <a:blip r:embed="rId1"/>
          <a:stretch/>
        </p:blipFill>
        <p:spPr>
          <a:xfrm>
            <a:off x="0" y="57240"/>
            <a:ext cx="9144000" cy="68007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7"/>
          <p:cNvSpPr/>
          <p:nvPr/>
        </p:nvSpPr>
        <p:spPr>
          <a:xfrm>
            <a:off x="826920" y="1125360"/>
            <a:ext cx="75600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Georgia"/>
              </a:rPr>
              <a:t>Ребята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Georgia"/>
              </a:rPr>
              <a:t>Берегите зре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5562720" y="2514600"/>
            <a:ext cx="1439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42" descr="86299fdc3f08d13a99479744af73be31[1].gif"/>
          <p:cNvPicPr/>
          <p:nvPr/>
        </p:nvPicPr>
        <p:blipFill>
          <a:blip r:embed="rId2"/>
          <a:stretch/>
        </p:blipFill>
        <p:spPr>
          <a:xfrm>
            <a:off x="1692360" y="3573360"/>
            <a:ext cx="173988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3T14:20:52Z</dcterms:created>
  <dc:creator>Oksana</dc:creator>
  <dc:description/>
  <dc:language>en-US</dc:language>
  <cp:lastModifiedBy>Марина</cp:lastModifiedBy>
  <dcterms:modified xsi:type="dcterms:W3CDTF">2012-04-07T12:49:50Z</dcterms:modified>
  <cp:revision>7</cp:revision>
  <dc:subject/>
  <dc:title>Слайд 1</dc:title>
</cp:coreProperties>
</file>